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B57D-FE84-40EA-A2CE-F6F4F03B1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B656-DF25-4A8E-878A-46A70373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AAAD-6493-4DBC-A618-03D31C0E4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2E03-0A44-4292-9B16-25E09EB5E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04DC-498D-43AF-9B36-105419BC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AD00-5876-4FC6-BA71-6938781E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51DB-AE2B-4397-BBBD-8FEAB28A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24C8-986E-45FB-8C49-336C4CC7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9C4C-B7A5-4507-8FE9-62C6059A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4382-CB63-4BAE-B001-8E62F169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508C-E448-45C3-9FE9-9E0E6025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4E4F-EF03-414B-89F5-D3BDEECD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9294-9BAF-4ABB-8CDB-ACACA10FC739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044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714240" y="357120"/>
            <a:ext cx="842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Hi,I am Geeta Rajan.I teach English to Grade 11 and Grade 12 students.I love meeting people,making friends and visiting plac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7:33:19Z</dcterms:created>
  <dc:creator>sai baba</dc:creator>
  <dc:description/>
  <dc:language>en-US</dc:language>
  <cp:lastModifiedBy>sai baba</cp:lastModifiedBy>
  <dcterms:modified xsi:type="dcterms:W3CDTF">2010-02-13T17:36:25Z</dcterms:modified>
  <cp:revision>1</cp:revision>
  <dc:subject/>
  <dc:title>Slide 1</dc:title>
</cp:coreProperties>
</file>